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0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682D-68F8-42A2-A3C0-680D2C9581BB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6E4-E556-41D1-8E2C-D1F35333D8F6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33B-3FB2-455A-BE53-E66B67F2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599-320B-4668-B9CC-7E85546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CB8-B5FB-452D-B682-54693DDC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D53-EB17-4A92-A0F7-DCB85FAA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A48F-DD75-4092-BC54-77D4DE2A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E9A4-5AAA-47CF-A6D7-5B917FCD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FED-2058-456F-9C60-EB9384B9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015-55F5-47C3-8081-4D160B7A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DAE-6DC5-4258-A0AC-B21341A8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922-F0D3-4EFC-B528-B91BAE6E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CA29-7E9B-40D0-82C7-8D83465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6F5-8E98-4790-90EC-CA9ECB4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AE35-6853-4AF6-8639-84EF176B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669-0966-4273-996B-188304C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8FF-A8FE-431B-AD25-2298DF50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1A4-8F8E-4702-A38B-11DE29BA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C7CA-ECC0-4386-854E-C45755B9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073-6445-4152-8AD1-D85BAF2E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B16-017B-4961-98EB-D3A12AC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820-3156-4D78-90BA-6CF5DC28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38C-65D7-4A70-B6D8-C8E0C3D4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2D-C35D-4A6F-BE4D-1867404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4C8-E0D7-471C-BFC3-D776221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D51-1CF9-46AB-84FB-BD4F1DE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3560" cy="1981080"/>
            <a:chOff x="0" y="0"/>
            <a:chExt cx="724356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440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356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6C71-8B39-4F82-B380-DFCBB5C844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5AC3-0D1E-4296-AFF0-9E99A249985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9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635120" y="436680"/>
            <a:ext cx="2951280" cy="332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19640" y="217440"/>
            <a:ext cx="2457360" cy="35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1967040" y="4097160"/>
            <a:ext cx="228600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4586400" y="4076640"/>
            <a:ext cx="2286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На арену выходят Лев и Медвед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79640" y="1341360"/>
            <a:ext cx="302436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льбрехт Медведь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л кня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Бранденбу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зднее на его территории возник город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Берли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643280" y="5950080"/>
            <a:ext cx="34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Альбрехт Медвед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Picture 9" descr="Рисунок6"/>
          <p:cNvPicPr/>
          <p:nvPr/>
        </p:nvPicPr>
        <p:blipFill>
          <a:blip r:embed="rId2"/>
          <a:stretch/>
        </p:blipFill>
        <p:spPr>
          <a:xfrm>
            <a:off x="1258920" y="907920"/>
            <a:ext cx="3211560" cy="56833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0">
            <a:hlinkClick r:id="rId3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На арену выходят Лев и Медвед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5315040"/>
            <a:ext cx="73436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земли, отвоеванные у славян, немецкие рыцари приглашали из Германии крестьян-колонистов. Им давали двойные наделы, и в дальнейшем они вносили точно установленный оброк. За Эльбой были основаны новые города. Полабские и поморские славяне частично были оттеснены в глухие места, частично смешались с немецкими переселенц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4360" y="4581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Мариенбург. Столица Тевтонского орден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" name="Picture 10" descr="Рисунок7"/>
          <p:cNvPicPr/>
          <p:nvPr/>
        </p:nvPicPr>
        <p:blipFill>
          <a:blip r:embed="rId2"/>
          <a:stretch/>
        </p:blipFill>
        <p:spPr>
          <a:xfrm>
            <a:off x="755640" y="765000"/>
            <a:ext cx="7650000" cy="37371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1">
            <a:hlinkClick r:id="rId3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Князья становятся независимыми правителя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4941360"/>
            <a:ext cx="7921440" cy="16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ператор Священной Римской империи не передавал трон по наследству; чтобы короновать сына, он при жизни должен был получить согласие княз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нязья в своих владениях чеканили монету, судили население, собирали налоги и пошлины, основывали города. Они не допускали, чтобы одна династия надолго укрепилась на императорском престо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3378600" y="4005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мператорский дворец в Гослар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AutoShape 42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Picture 59" descr="Рисунок8"/>
          <p:cNvPicPr/>
          <p:nvPr/>
        </p:nvPicPr>
        <p:blipFill>
          <a:blip r:embed="rId2"/>
          <a:stretch/>
        </p:blipFill>
        <p:spPr>
          <a:xfrm>
            <a:off x="324000" y="1268280"/>
            <a:ext cx="86468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. Князья становятся независимыми прав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11280" y="18864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рл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1346—1378) из </a:t>
            </a: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династии Люксембур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оль Чех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ператор Священной Римской империи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рл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692360" y="649116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рл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284720" y="64911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орона Священной римской импер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Picture 10" descr="Рисунок9"/>
          <p:cNvPicPr/>
          <p:nvPr/>
        </p:nvPicPr>
        <p:blipFill>
          <a:blip r:embed="rId2"/>
          <a:stretch/>
        </p:blipFill>
        <p:spPr>
          <a:xfrm>
            <a:off x="684360" y="1341360"/>
            <a:ext cx="3501720" cy="512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Рисунок10"/>
          <p:cNvPicPr/>
          <p:nvPr/>
        </p:nvPicPr>
        <p:blipFill>
          <a:blip r:embed="rId3"/>
          <a:stretch/>
        </p:blipFill>
        <p:spPr>
          <a:xfrm>
            <a:off x="5203800" y="3716280"/>
            <a:ext cx="2594160" cy="2746440"/>
          </a:xfrm>
          <a:prstGeom prst="rect">
            <a:avLst/>
          </a:prstGeom>
          <a:ln w="0">
            <a:noFill/>
          </a:ln>
        </p:spPr>
      </p:pic>
      <p:sp>
        <p:nvSpPr>
          <p:cNvPr id="176" name="Стрелка вниз 1"/>
          <p:cNvSpPr/>
          <p:nvPr/>
        </p:nvSpPr>
        <p:spPr>
          <a:xfrm>
            <a:off x="6459480" y="922320"/>
            <a:ext cx="484200" cy="70632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Стрелка вниз 2"/>
          <p:cNvSpPr/>
          <p:nvPr/>
        </p:nvSpPr>
        <p:spPr>
          <a:xfrm>
            <a:off x="6500880" y="1989000"/>
            <a:ext cx="484200" cy="68436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Князья становятся независимыми правителя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51280" y="3284640"/>
            <a:ext cx="3168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1356 год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л </a:t>
            </a: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«Золотую буллу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58516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Золотая булла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3" name="Picture 8" descr="Рисунок11"/>
          <p:cNvPicPr/>
          <p:nvPr/>
        </p:nvPicPr>
        <p:blipFill>
          <a:blip r:embed="rId2"/>
          <a:stretch/>
        </p:blipFill>
        <p:spPr>
          <a:xfrm>
            <a:off x="826920" y="1341360"/>
            <a:ext cx="47530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Князья становятся независимыми правителя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79640" y="1196640"/>
            <a:ext cx="298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ней подтверждался сложившийся порядок избрания императо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го выбирали семь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курфюрст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 переводе — князья-избиратели): три церковных и четыре светских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брание проводилось большинством голосов и не требовало согласия папы, но такое согласие было нужно при коронац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улла разрешила князьям вести «законно объявленные частные войны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одам запрещалось объединяться в союзы и бороться против феодальных сеньор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470320" y="357336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рл и курфюрсты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724480" y="64911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урфюрсты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11" descr="Рисунок12"/>
          <p:cNvPicPr/>
          <p:nvPr/>
        </p:nvPicPr>
        <p:blipFill>
          <a:blip r:embed="rId2"/>
          <a:stretch/>
        </p:blipFill>
        <p:spPr>
          <a:xfrm>
            <a:off x="611280" y="1197000"/>
            <a:ext cx="4699080" cy="241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Рисунок13"/>
          <p:cNvPicPr/>
          <p:nvPr/>
        </p:nvPicPr>
        <p:blipFill>
          <a:blip r:embed="rId3"/>
          <a:stretch/>
        </p:blipFill>
        <p:spPr>
          <a:xfrm>
            <a:off x="611280" y="3933720"/>
            <a:ext cx="4832280" cy="25732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3">
            <a:hlinkClick r:id="rId4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58" h="21600">
                <a:moveTo>
                  <a:pt x="5302" y="3985"/>
                </a:moveTo>
                <a:lnTo>
                  <a:pt x="12300" y="3985"/>
                </a:lnTo>
                <a:lnTo>
                  <a:pt x="16356" y="7484"/>
                </a:lnTo>
                <a:lnTo>
                  <a:pt x="16356" y="17615"/>
                </a:lnTo>
                <a:lnTo>
                  <a:pt x="5302" y="17615"/>
                </a:lnTo>
                <a:close/>
              </a:path>
              <a:path fill="darken" w="21658" h="21600">
                <a:moveTo>
                  <a:pt x="12300" y="3985"/>
                </a:moveTo>
                <a:lnTo>
                  <a:pt x="16356" y="7484"/>
                </a:lnTo>
                <a:lnTo>
                  <a:pt x="12300" y="74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AutoShape 14">
            <a:hlinkClick r:id="rId5" action="ppaction://hlinksldjump"/>
          </p:cNvPr>
          <p:cNvSpPr/>
          <p:nvPr/>
        </p:nvSpPr>
        <p:spPr>
          <a:xfrm>
            <a:off x="8604360" y="53006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58" h="21600">
                <a:moveTo>
                  <a:pt x="5302" y="3985"/>
                </a:moveTo>
                <a:lnTo>
                  <a:pt x="12300" y="3985"/>
                </a:lnTo>
                <a:lnTo>
                  <a:pt x="16356" y="7484"/>
                </a:lnTo>
                <a:lnTo>
                  <a:pt x="16356" y="17615"/>
                </a:lnTo>
                <a:lnTo>
                  <a:pt x="5302" y="17615"/>
                </a:lnTo>
                <a:close/>
              </a:path>
              <a:path fill="darken" w="21658" h="21600">
                <a:moveTo>
                  <a:pt x="12300" y="3985"/>
                </a:moveTo>
                <a:lnTo>
                  <a:pt x="16356" y="7484"/>
                </a:lnTo>
                <a:lnTo>
                  <a:pt x="12300" y="74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Упадок власти императоров в XV век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94160" y="1413000"/>
            <a:ext cx="37418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ервой полови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династия Люксембургов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династия Габсбург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149920" y="62373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дольф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Габсбур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Picture 20" descr="Рисунок14"/>
          <p:cNvPicPr/>
          <p:nvPr/>
        </p:nvPicPr>
        <p:blipFill>
          <a:blip r:embed="rId2"/>
          <a:stretch/>
        </p:blipFill>
        <p:spPr>
          <a:xfrm>
            <a:off x="1547640" y="1268280"/>
            <a:ext cx="3127680" cy="4967280"/>
          </a:xfrm>
          <a:prstGeom prst="rect">
            <a:avLst/>
          </a:prstGeom>
          <a:ln w="0">
            <a:noFill/>
          </a:ln>
        </p:spPr>
      </p:pic>
      <p:sp>
        <p:nvSpPr>
          <p:cNvPr id="200" name="Стрелка вниз 1"/>
          <p:cNvSpPr/>
          <p:nvPr/>
        </p:nvSpPr>
        <p:spPr>
          <a:xfrm>
            <a:off x="6372360" y="3262320"/>
            <a:ext cx="1152360" cy="11746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ы постановляем также, что никакие графы, бароны, сеньоры, ленники, вассалы, владельцы замков, рыцари, слуги, горожане, городские обитатели и никакие (вообще) лица, подданные церквей кёльнской, майнцской и трирской, какого бы положения, состояния и сана они ни были, (как) в прежние времена не могли быть вызываемы, (так) и отныне впредь на вечные времена не должны и не могут быть привлекаемы и вызываемы по требованию какого бы то ни было истца вне территории и за границами и пределами этих церквей и владений, к ним принадлежащих, в какой бы то ни было и в чей бы то ни было суд, кроме как в суд архиепископов Майнцского, Трирского и Кёльнского и их судей, как это и было соблюдаемо, насколько нам известно, в прежние времена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ы желаем, чтобы это же постановление в силу настоящего Нашего императорского закона полностью было распространено на светлейших: пфальцграфа Рейнского, герцога Саксонского и маркграфа Бранденбургского, князей-избирателей светских, или недуховных, на их наследников, преемников и подданных - во всех тех видах и на всех тех условиях, как говорится выше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4">
            <a:hlinkClick r:id="" action="ppaction://hlinkshowjump?jump=previousslide"/>
          </p:cNvPr>
          <p:cNvSpPr/>
          <p:nvPr/>
        </p:nvSpPr>
        <p:spPr>
          <a:xfrm rot="10800000">
            <a:off x="252000" y="60210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00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6" descr="book35"/>
          <p:cNvPicPr/>
          <p:nvPr/>
        </p:nvPicPr>
        <p:blipFill>
          <a:blip r:embed="rId1"/>
          <a:stretch/>
        </p:blipFill>
        <p:spPr>
          <a:xfrm>
            <a:off x="0" y="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611280" y="0"/>
            <a:ext cx="8532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«Золотой буллы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а XI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 иммунитете князей-избирател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4859280" y="1341360"/>
            <a:ext cx="4035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Их выбирали семь крупнейших князей Германии: архиепископы Майнцский, Кёльнский и Трирский, пфальцграф, герцог Саксонский, маркграф Бранденбургский и король Чехии. Три архиепископа были самыми богатыми и влиятельными духовными лицами Германии, а остальные представители происходили из рода основателей Священной Римской империи, сестер Оттона Велико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енисбергер Г. Средневековая Европа 400–1500. М., 2001. С. 303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4">
            <a:hlinkClick r:id="" action="ppaction://hlinkshowjump?jump=previousslide"/>
          </p:cNvPr>
          <p:cNvSpPr/>
          <p:nvPr/>
        </p:nvSpPr>
        <p:spPr>
          <a:xfrm rot="10800000">
            <a:off x="252000" y="60210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00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Picture 6" descr="book35"/>
          <p:cNvPicPr/>
          <p:nvPr/>
        </p:nvPicPr>
        <p:blipFill>
          <a:blip r:embed="rId1"/>
          <a:stretch/>
        </p:blipFill>
        <p:spPr>
          <a:xfrm>
            <a:off x="0" y="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11280" y="0"/>
            <a:ext cx="8532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 Кенигсбергер о выборах императоров в Герман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859280" y="1341360"/>
            <a:ext cx="4035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ященная Римская имп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8" name="Picture 9" descr="Рисунок16"/>
          <p:cNvPicPr/>
          <p:nvPr/>
        </p:nvPicPr>
        <p:blipFill>
          <a:blip r:embed="rId1"/>
          <a:stretch/>
        </p:blipFill>
        <p:spPr>
          <a:xfrm>
            <a:off x="2484360" y="549360"/>
            <a:ext cx="4289400" cy="61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52720" y="1413000"/>
            <a:ext cx="48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сударства, оставшиеся раздробленными: Германия и Италия 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XV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веках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14036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§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AutoShape 7">
            <a:hlinkClick r:id="" action="ppaction://hlinkshowjump?jump=nextslide"/>
          </p:cNvPr>
          <p:cNvSpPr/>
          <p:nvPr/>
        </p:nvSpPr>
        <p:spPr>
          <a:xfrm>
            <a:off x="8317080" y="6165720"/>
            <a:ext cx="539640" cy="46692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4961" h="21600">
                <a:moveTo>
                  <a:pt x="0" y="0"/>
                </a:moveTo>
                <a:lnTo>
                  <a:pt x="24961" y="0"/>
                </a:lnTo>
                <a:lnTo>
                  <a:pt x="24961" y="21600"/>
                </a:lnTo>
                <a:lnTo>
                  <a:pt x="0" y="21600"/>
                </a:lnTo>
                <a:close/>
              </a:path>
              <a:path fill="lightenLess" w="24961" h="21600">
                <a:moveTo>
                  <a:pt x="0" y="0"/>
                </a:moveTo>
                <a:lnTo>
                  <a:pt x="24961" y="0"/>
                </a:lnTo>
                <a:lnTo>
                  <a:pt x="23561" y="1400"/>
                </a:lnTo>
                <a:lnTo>
                  <a:pt x="1400" y="1400"/>
                </a:lnTo>
                <a:close/>
              </a:path>
              <a:path fill="darken" w="24961" h="21600">
                <a:moveTo>
                  <a:pt x="24961" y="0"/>
                </a:moveTo>
                <a:lnTo>
                  <a:pt x="24961" y="21600"/>
                </a:lnTo>
                <a:lnTo>
                  <a:pt x="23561" y="20200"/>
                </a:lnTo>
                <a:lnTo>
                  <a:pt x="23561" y="1400"/>
                </a:lnTo>
                <a:close/>
              </a:path>
              <a:path fill="darkenLess" w="24961" h="21600">
                <a:moveTo>
                  <a:pt x="24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61" y="20200"/>
                </a:lnTo>
                <a:close/>
              </a:path>
              <a:path fill="lighten" w="24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61" h="21600">
                <a:moveTo>
                  <a:pt x="5474" y="3794"/>
                </a:moveTo>
                <a:lnTo>
                  <a:pt x="19487" y="10800"/>
                </a:lnTo>
                <a:lnTo>
                  <a:pt x="54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86728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чать урок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1" descr="image00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тиск на Вос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Picture 7" descr="Рисунок1"/>
          <p:cNvPicPr/>
          <p:nvPr/>
        </p:nvPicPr>
        <p:blipFill>
          <a:blip r:embed="rId1"/>
          <a:stretch/>
        </p:blipFill>
        <p:spPr>
          <a:xfrm>
            <a:off x="542880" y="595440"/>
            <a:ext cx="8058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тиск на Вос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7" descr="Рисунок2"/>
          <p:cNvPicPr/>
          <p:nvPr/>
        </p:nvPicPr>
        <p:blipFill>
          <a:blip r:embed="rId1"/>
          <a:stretch/>
        </p:blipFill>
        <p:spPr>
          <a:xfrm>
            <a:off x="414360" y="603360"/>
            <a:ext cx="83152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тиск на Вос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Picture 7" descr="Рисунок3"/>
          <p:cNvPicPr/>
          <p:nvPr/>
        </p:nvPicPr>
        <p:blipFill>
          <a:blip r:embed="rId1"/>
          <a:stretch/>
        </p:blipFill>
        <p:spPr>
          <a:xfrm>
            <a:off x="396720" y="635040"/>
            <a:ext cx="835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тиск на Вос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579600"/>
            <a:ext cx="849780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я Габсбургов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AutoShape 3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39640" y="6491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8" name="Picture 7" descr="Рисунок5"/>
          <p:cNvPicPr/>
          <p:nvPr/>
        </p:nvPicPr>
        <p:blipFill>
          <a:blip r:embed="rId1"/>
          <a:stretch/>
        </p:blipFill>
        <p:spPr>
          <a:xfrm>
            <a:off x="1979640" y="768240"/>
            <a:ext cx="51022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Городские республики в Итал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6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11280" y="539280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Италии раньше, чем в других странах Европы, возрождались римские и возникали новые города. Расцвету итальянских городов дали толчок и Крестовые походы: многие города хорошо поживились на выгодных сделках с крестоносцами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49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71"/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796896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Венец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76" descr="Рисунок4"/>
          <p:cNvPicPr/>
          <p:nvPr/>
        </p:nvPicPr>
        <p:blipFill>
          <a:blip r:embed="rId1"/>
          <a:stretch/>
        </p:blipFill>
        <p:spPr>
          <a:xfrm>
            <a:off x="755640" y="1197000"/>
            <a:ext cx="70610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Городские республики в Итал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468360" y="4826160"/>
            <a:ext cx="7918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I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еков торговцы и ремесленники многих городов вступили в борьбу с сеньорами — графами, епископами. Богатые города Северной и Средней Италии —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Милан, Пиза, Болонья, Флоренци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 другие — добились пра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 Narrow"/>
              </a:rPr>
              <a:t>коммуны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 власть коммуны переходила прилегающая к городу сельская округа, а порой и более обширная территория. Коммуна превращалась в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город-государство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городскую республику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920240" y="4437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Неаполь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934520" y="44370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лощадь собраний. Флоренц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13" descr="Рисунок2"/>
          <p:cNvPicPr/>
          <p:nvPr/>
        </p:nvPicPr>
        <p:blipFill>
          <a:blip r:embed="rId1"/>
          <a:stretch/>
        </p:blipFill>
        <p:spPr>
          <a:xfrm>
            <a:off x="684360" y="907920"/>
            <a:ext cx="2844720" cy="354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Рисунок3"/>
          <p:cNvPicPr/>
          <p:nvPr/>
        </p:nvPicPr>
        <p:blipFill>
          <a:blip r:embed="rId2"/>
          <a:stretch/>
        </p:blipFill>
        <p:spPr>
          <a:xfrm>
            <a:off x="4427640" y="907920"/>
            <a:ext cx="41194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Городские республики в Итал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526000" y="907920"/>
            <a:ext cx="3348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орожане разрушали замки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ереселяли дворян в города, чтобы держать их под строгим надзором, иногда лишая их при этом права участвовать в делах коммун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свобождали крестьян округи от личной зависимости, но сами становились их господам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806080" y="616572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тальянские горожан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3" name="Picture 12" descr="Рисунок5"/>
          <p:cNvPicPr/>
          <p:nvPr/>
        </p:nvPicPr>
        <p:blipFill>
          <a:blip r:embed="rId1"/>
          <a:stretch/>
        </p:blipFill>
        <p:spPr>
          <a:xfrm>
            <a:off x="684360" y="907920"/>
            <a:ext cx="451296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Гвельфы и гибелл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81636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Гвельф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были противниками императора и сторонниками папы; опорой им служили торговцы и ремесленники в город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Гибелли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сторонники императора — опирались главным образом на дворя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5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68360" y="4941720"/>
            <a:ext cx="4824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оперничество проявилось даже в архитектуре. По форме зубцов воюющие друг с другом гвельфы и гибеллины отличали дружественные замки от недружественных. У гвельфов зубцы были прямоугольные, у гибеллинов - вот такие вот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9" name="Picture 22" descr="Рисунок6"/>
          <p:cNvPicPr/>
          <p:nvPr/>
        </p:nvPicPr>
        <p:blipFill>
          <a:blip r:embed="rId1"/>
          <a:stretch/>
        </p:blipFill>
        <p:spPr>
          <a:xfrm>
            <a:off x="971640" y="836640"/>
            <a:ext cx="35337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. Правление Медичи во Флорен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9280" y="907560"/>
            <a:ext cx="302436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Тиран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диноличный правитель города-государства, передававший её по наследству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Тирания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рядок управ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Милане, Флоренции, Болонье и других городах Северной и Средней Италии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26920" y="6021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Чезаре Борджиа – герцог Венец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05928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Лодовико Сфорца – герцог Милан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6" name="Picture 10" descr="Рисунок9"/>
          <p:cNvPicPr/>
          <p:nvPr/>
        </p:nvPicPr>
        <p:blipFill>
          <a:blip r:embed="rId1"/>
          <a:stretch/>
        </p:blipFill>
        <p:spPr>
          <a:xfrm>
            <a:off x="3132000" y="3139920"/>
            <a:ext cx="2840040" cy="3718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Рисунок16"/>
          <p:cNvPicPr/>
          <p:nvPr/>
        </p:nvPicPr>
        <p:blipFill>
          <a:blip r:embed="rId2"/>
          <a:stretch/>
        </p:blipFill>
        <p:spPr>
          <a:xfrm>
            <a:off x="324000" y="836640"/>
            <a:ext cx="2679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Повторение пройден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Задание на уро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1. Почему Германия не объединилась в единое государств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2. На арену выходят Лев и Медвед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3. Князья становятся независимыми правителя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4. Городские республики в Итал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5. Гвельфы и гибелли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6. Правление Медичи во Флорен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-54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. Правление Медичи во Флорен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12000" y="980640"/>
            <a:ext cx="291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о Флоренци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емья 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Медич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613320" y="9079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ерб Медич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3" name="Picture 8" descr="Герб рода"/>
          <p:cNvPicPr/>
          <p:nvPr/>
        </p:nvPicPr>
        <p:blipFill>
          <a:blip r:embed="rId1"/>
          <a:stretch/>
        </p:blipFill>
        <p:spPr>
          <a:xfrm>
            <a:off x="250920" y="692280"/>
            <a:ext cx="2881080" cy="3168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395280" y="50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Один из основателей рода –Козимо Медич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5" name="Picture 11" descr="Рисунок11"/>
          <p:cNvPicPr/>
          <p:nvPr/>
        </p:nvPicPr>
        <p:blipFill>
          <a:blip r:embed="rId2"/>
          <a:stretch/>
        </p:blipFill>
        <p:spPr>
          <a:xfrm>
            <a:off x="3132000" y="2708280"/>
            <a:ext cx="2892600" cy="3998880"/>
          </a:xfrm>
          <a:prstGeom prst="rect">
            <a:avLst/>
          </a:prstGeom>
          <a:ln w="0">
            <a:noFill/>
          </a:ln>
        </p:spPr>
      </p:pic>
      <p:sp>
        <p:nvSpPr>
          <p:cNvPr id="286" name="Стрелка вниз 1"/>
          <p:cNvSpPr/>
          <p:nvPr/>
        </p:nvSpPr>
        <p:spPr>
          <a:xfrm>
            <a:off x="6659640" y="2722680"/>
            <a:ext cx="1349280" cy="16272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. Правление Медичи во Флорен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3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5157360"/>
            <a:ext cx="79214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шего могущества власть Медичи во Флоренции достигла при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Лоренцо Великолепно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1468—1492), который твердо и единолично управлял государ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76360" y="4581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Лоренцо Медич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2" name="Picture 10" descr="Рисунок12"/>
          <p:cNvPicPr/>
          <p:nvPr/>
        </p:nvPicPr>
        <p:blipFill>
          <a:blip r:embed="rId1"/>
          <a:stretch/>
        </p:blipFill>
        <p:spPr>
          <a:xfrm>
            <a:off x="324000" y="765000"/>
            <a:ext cx="2192040" cy="3756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Рисунок13"/>
          <p:cNvPicPr/>
          <p:nvPr/>
        </p:nvPicPr>
        <p:blipFill>
          <a:blip r:embed="rId2"/>
          <a:stretch/>
        </p:blipFill>
        <p:spPr>
          <a:xfrm>
            <a:off x="2700360" y="765000"/>
            <a:ext cx="3005280" cy="3751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14"/>
          <p:cNvPicPr/>
          <p:nvPr/>
        </p:nvPicPr>
        <p:blipFill>
          <a:blip r:embed="rId3"/>
          <a:stretch/>
        </p:blipFill>
        <p:spPr>
          <a:xfrm>
            <a:off x="5940360" y="765000"/>
            <a:ext cx="29210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айдите общее и различия в причинах сохранения раздробленности в Германии и Италии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utoShape 4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чины сохранения раздробленности  в Германии и Итал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торговали не друг с другом, а с другими стран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жане не были заинтересованы в сильной центральной вла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лкие и средние дворяне, которые поддержали бы короля, были слаб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РАЗЛИЧ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Германии власть находилась в руках князей, а в Италии – город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ерманские князья осуществляли завоевательские походы, а города Италии – не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цвету городов Италии дали Крестовые поход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Италии становились господами для окрестных крестьян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ирания в Итал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ите задание №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ите задание №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4">
            <a:hlinkClick r:id="" action="ppaction://hlinkshowjump?jump=endshow"/>
          </p:cNvPr>
          <p:cNvSpPr/>
          <p:nvPr/>
        </p:nvSpPr>
        <p:spPr>
          <a:xfrm>
            <a:off x="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11295" y="3837"/>
                </a:moveTo>
                <a:lnTo>
                  <a:pt x="13871" y="6448"/>
                </a:lnTo>
                <a:lnTo>
                  <a:pt x="13871" y="4707"/>
                </a:lnTo>
                <a:lnTo>
                  <a:pt x="15647" y="4707"/>
                </a:lnTo>
                <a:lnTo>
                  <a:pt x="15647" y="8224"/>
                </a:lnTo>
                <a:lnTo>
                  <a:pt x="18258" y="10800"/>
                </a:lnTo>
                <a:lnTo>
                  <a:pt x="16604" y="10800"/>
                </a:lnTo>
                <a:lnTo>
                  <a:pt x="16604" y="17989"/>
                </a:lnTo>
                <a:lnTo>
                  <a:pt x="5986" y="17989"/>
                </a:lnTo>
                <a:lnTo>
                  <a:pt x="5986" y="10800"/>
                </a:lnTo>
                <a:lnTo>
                  <a:pt x="4332" y="10800"/>
                </a:lnTo>
                <a:close/>
              </a:path>
              <a:path fill="darkenLess" w="22590" h="21600">
                <a:moveTo>
                  <a:pt x="13871" y="6448"/>
                </a:moveTo>
                <a:lnTo>
                  <a:pt x="13871" y="4707"/>
                </a:lnTo>
                <a:lnTo>
                  <a:pt x="15647" y="4707"/>
                </a:lnTo>
                <a:lnTo>
                  <a:pt x="15647" y="8224"/>
                </a:lnTo>
                <a:close/>
              </a:path>
              <a:path fill="darkenLess" w="22590" h="21600">
                <a:moveTo>
                  <a:pt x="10372" y="14299"/>
                </a:moveTo>
                <a:lnTo>
                  <a:pt x="12218" y="14299"/>
                </a:lnTo>
                <a:lnTo>
                  <a:pt x="12218" y="17989"/>
                </a:lnTo>
                <a:lnTo>
                  <a:pt x="16604" y="17989"/>
                </a:lnTo>
                <a:lnTo>
                  <a:pt x="16604" y="10800"/>
                </a:lnTo>
                <a:lnTo>
                  <a:pt x="5986" y="10800"/>
                </a:lnTo>
                <a:lnTo>
                  <a:pt x="5986" y="17989"/>
                </a:lnTo>
                <a:lnTo>
                  <a:pt x="10372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84360" y="6515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5867280" y="2205000"/>
            <a:ext cx="538200" cy="53820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5867280" y="3357720"/>
            <a:ext cx="538200" cy="53784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14" h="21600">
                <a:moveTo>
                  <a:pt x="11913" y="14281"/>
                </a:moveTo>
                <a:lnTo>
                  <a:pt x="11913" y="12323"/>
                </a:lnTo>
                <a:cubicBezTo>
                  <a:pt x="11913" y="11496"/>
                  <a:pt x="12243" y="10800"/>
                  <a:pt x="12844" y="10800"/>
                </a:cubicBezTo>
                <a:cubicBezTo>
                  <a:pt x="13975" y="10800"/>
                  <a:pt x="14872" y="9434"/>
                  <a:pt x="14872" y="7849"/>
                </a:cubicBezTo>
                <a:cubicBezTo>
                  <a:pt x="14872" y="5534"/>
                  <a:pt x="13018" y="3794"/>
                  <a:pt x="10807" y="3794"/>
                </a:cubicBezTo>
                <a:cubicBezTo>
                  <a:pt x="8596" y="3794"/>
                  <a:pt x="6925" y="5534"/>
                  <a:pt x="6925" y="7849"/>
                </a:cubicBezTo>
                <a:lnTo>
                  <a:pt x="8779" y="7849"/>
                </a:lnTo>
                <a:cubicBezTo>
                  <a:pt x="8779" y="6709"/>
                  <a:pt x="9702" y="5821"/>
                  <a:pt x="10807" y="5821"/>
                </a:cubicBezTo>
                <a:cubicBezTo>
                  <a:pt x="11913" y="5821"/>
                  <a:pt x="12844" y="6709"/>
                  <a:pt x="12844" y="7849"/>
                </a:cubicBezTo>
                <a:cubicBezTo>
                  <a:pt x="12844" y="8589"/>
                  <a:pt x="12374" y="9320"/>
                  <a:pt x="11913" y="9320"/>
                </a:cubicBezTo>
                <a:cubicBezTo>
                  <a:pt x="10807" y="9320"/>
                  <a:pt x="9702" y="10800"/>
                  <a:pt x="9702" y="12323"/>
                </a:cubicBezTo>
                <a:lnTo>
                  <a:pt x="9702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пользованные материал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гибалова Е.В., Донской Г.М. История Средних веков 6 класс/ учебник для общеобразовательных школ. - М.: Просвещение, 2008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люстраци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Девятайкина Н. И. История Средних веков: Учебное пособие. 6 класс. Ч. 1 / Девятайкина Н. И. - М.: ОЛМАПРЕСС, 200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али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6">
            <a:hlinkClick r:id="" action="ppaction://hlinkshowjump?jump=previousslide"/>
          </p:cNvPr>
          <p:cNvSpPr/>
          <p:nvPr/>
        </p:nvSpPr>
        <p:spPr>
          <a:xfrm rot="10800000">
            <a:off x="-360" y="631944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39640" y="649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5" name="Picture 23" descr="Рисунок1"/>
          <p:cNvPicPr/>
          <p:nvPr/>
        </p:nvPicPr>
        <p:blipFill>
          <a:blip r:embed="rId1"/>
          <a:stretch/>
        </p:blipFill>
        <p:spPr>
          <a:xfrm>
            <a:off x="2195640" y="544680"/>
            <a:ext cx="482256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овторение пройденног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ите зад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148360" y="2276640"/>
            <a:ext cx="539640" cy="53784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72" h="21600">
                <a:moveTo>
                  <a:pt x="11941" y="14281"/>
                </a:moveTo>
                <a:lnTo>
                  <a:pt x="11941" y="12323"/>
                </a:lnTo>
                <a:cubicBezTo>
                  <a:pt x="11941" y="11496"/>
                  <a:pt x="12272" y="10800"/>
                  <a:pt x="12873" y="10800"/>
                </a:cubicBezTo>
                <a:cubicBezTo>
                  <a:pt x="14004" y="10800"/>
                  <a:pt x="14901" y="9434"/>
                  <a:pt x="14901" y="7849"/>
                </a:cubicBezTo>
                <a:cubicBezTo>
                  <a:pt x="14901" y="5534"/>
                  <a:pt x="13047" y="3794"/>
                  <a:pt x="10836" y="3794"/>
                </a:cubicBezTo>
                <a:cubicBezTo>
                  <a:pt x="8625" y="3794"/>
                  <a:pt x="6954" y="5534"/>
                  <a:pt x="6954" y="7849"/>
                </a:cubicBezTo>
                <a:lnTo>
                  <a:pt x="8808" y="7849"/>
                </a:lnTo>
                <a:cubicBezTo>
                  <a:pt x="8808" y="6709"/>
                  <a:pt x="9731" y="5821"/>
                  <a:pt x="10836" y="5821"/>
                </a:cubicBezTo>
                <a:cubicBezTo>
                  <a:pt x="11941" y="5821"/>
                  <a:pt x="12873" y="6709"/>
                  <a:pt x="12873" y="7849"/>
                </a:cubicBezTo>
                <a:cubicBezTo>
                  <a:pt x="12873" y="8589"/>
                  <a:pt x="12403" y="9320"/>
                  <a:pt x="11941" y="9320"/>
                </a:cubicBezTo>
                <a:cubicBezTo>
                  <a:pt x="10836" y="9320"/>
                  <a:pt x="9731" y="10800"/>
                  <a:pt x="9731" y="12323"/>
                </a:cubicBezTo>
                <a:lnTo>
                  <a:pt x="9731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9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айдите общее и различия в причинах сохранения раздробленности в Германии и Италии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8604360" y="6318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AutoShape 5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ятиугольник 2"/>
          <p:cNvSpPr/>
          <p:nvPr/>
        </p:nvSpPr>
        <p:spPr>
          <a:xfrm rot="5400000">
            <a:off x="5877360" y="1224360"/>
            <a:ext cx="2160360" cy="383220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Блок-схема: альтернативный процесс 1"/>
          <p:cNvSpPr/>
          <p:nvPr/>
        </p:nvSpPr>
        <p:spPr>
          <a:xfrm>
            <a:off x="5041800" y="1305000"/>
            <a:ext cx="3832200" cy="612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 Почему Германия не объединилась в единое государст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4672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041800" y="1305000"/>
            <a:ext cx="386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Работа с текстом учебни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Narrow"/>
              </a:rPr>
              <a:t>Укажите, используя текст учеб-ника (с.191), причины сохранения феодальной раздробленности в Германии, в отличие от Англии и Фран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упные города здесь больше торговали с другими странами, чем между собой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мецкие горожане не так сильно стремились к созданию единого государства, как горожане в Англии или во Франци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AutoShape 49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75"/>
          <p:cNvSpPr/>
          <p:nvPr/>
        </p:nvSpPr>
        <p:spPr>
          <a:xfrm>
            <a:off x="266760" y="5589720"/>
            <a:ext cx="44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ерманский город Ланден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76" descr="Рисунок1"/>
          <p:cNvPicPr/>
          <p:nvPr/>
        </p:nvPicPr>
        <p:blipFill>
          <a:blip r:embed="rId2"/>
          <a:stretch/>
        </p:blipFill>
        <p:spPr>
          <a:xfrm>
            <a:off x="270000" y="1268280"/>
            <a:ext cx="46242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 Почему Германия не объединилась в единое государст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4672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9640" y="51181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 мелкие и средние дворяне, которые в других странах поддерживали короля, в Германии были слишком слабы, чтобы стать опорой центральной власт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AutoShape 7">
            <a:hlinkClick r:id="rId2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805440" y="23493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Дворец в Брауншвейг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Picture 12" descr="Рисунок2"/>
          <p:cNvPicPr/>
          <p:nvPr/>
        </p:nvPicPr>
        <p:blipFill>
          <a:blip r:embed="rId3"/>
          <a:stretch/>
        </p:blipFill>
        <p:spPr>
          <a:xfrm>
            <a:off x="755640" y="1125360"/>
            <a:ext cx="57704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На арену выходят Лев и Медвед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10160" y="1197000"/>
            <a:ext cx="323856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воевания в славянских земля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ходами руководили не короли, а отдельные князья, желавшие расширить свои владения. Эти завоевания усиливали власть князей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AutoShape 6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71640" y="6021360"/>
            <a:ext cx="44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ход на Восток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Picture 22" descr="Рисунок3"/>
          <p:cNvPicPr/>
          <p:nvPr/>
        </p:nvPicPr>
        <p:blipFill>
          <a:blip r:embed="rId2"/>
          <a:stretch/>
        </p:blipFill>
        <p:spPr>
          <a:xfrm>
            <a:off x="1042920" y="1052640"/>
            <a:ext cx="4200480" cy="49147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3">
            <a:hlinkClick r:id="rId3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На арену выходят Лев и Медвед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16360" y="764640"/>
            <a:ext cx="4105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енрих Лев 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рцог Саксонии и Баварии из рода Вёльф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8604360" y="631980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4328" y="10800"/>
                </a:moveTo>
                <a:lnTo>
                  <a:pt x="3822" y="17806"/>
                </a:lnTo>
                <a:lnTo>
                  <a:pt x="3822" y="3794"/>
                </a:lnTo>
                <a:close/>
              </a:path>
              <a:path fill="darken" w="21658" h="21600">
                <a:moveTo>
                  <a:pt x="16173" y="3794"/>
                </a:moveTo>
                <a:lnTo>
                  <a:pt x="16173" y="17806"/>
                </a:lnTo>
                <a:lnTo>
                  <a:pt x="17835" y="17806"/>
                </a:lnTo>
                <a:lnTo>
                  <a:pt x="1783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9280" y="522936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енрих Лев и его жена Матильд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Picture 10" descr="Рисунок4"/>
          <p:cNvPicPr/>
          <p:nvPr/>
        </p:nvPicPr>
        <p:blipFill>
          <a:blip r:embed="rId2"/>
          <a:stretch/>
        </p:blipFill>
        <p:spPr>
          <a:xfrm>
            <a:off x="395280" y="1052640"/>
            <a:ext cx="3078000" cy="409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Рисунок5"/>
          <p:cNvPicPr/>
          <p:nvPr/>
        </p:nvPicPr>
        <p:blipFill>
          <a:blip r:embed="rId3"/>
          <a:stretch/>
        </p:blipFill>
        <p:spPr>
          <a:xfrm>
            <a:off x="3635280" y="2781360"/>
            <a:ext cx="4272120" cy="38955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>
            <a:hlinkClick r:id="rId4" action="ppaction://hlinksldjump"/>
          </p:cNvPr>
          <p:cNvSpPr/>
          <p:nvPr/>
        </p:nvSpPr>
        <p:spPr>
          <a:xfrm>
            <a:off x="8604360" y="580536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edf1"/>
                </a:solidFill>
                <a:latin typeface="Webdings"/>
                <a:ea typeface="Web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44:01Z</dcterms:created>
  <dc:creator>СЕРГЕЙ</dc:creator>
  <dc:description/>
  <dc:language>en-US</dc:language>
  <cp:lastModifiedBy>User</cp:lastModifiedBy>
  <dcterms:modified xsi:type="dcterms:W3CDTF">2015-12-13T09:43:46Z</dcterms:modified>
  <cp:revision>600</cp:revision>
  <dc:subject/>
  <dc:title>Слайд 1</dc:title>
</cp:coreProperties>
</file>